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D42-2B35-490E-B28F-C9008007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DEB-1AF8-4E02-84D5-A1B6CBBF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7B7-62CA-4BAA-AD9D-257CDFFE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250-B61F-44CA-8B23-076BBB5E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7CA-1DED-48E3-B8C3-A4BB9D5D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62C-383C-4BE1-A1AB-D00AE763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E93-71EE-45F5-B67D-02C04E3B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085-21B6-4B49-A0A4-3B62ED6A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F31-1E3D-4C77-920A-846A8D6A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F8F-208B-46B7-9A1B-7C6DD20A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A26-5863-4F27-86F2-B6A4962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5EB-2AF7-4B69-88D1-AE736F3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CE45-AF8A-4491-AC8B-B8E5AFBFE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axim Andrada – Georgian</a:t>
            </a:r>
            <a:r>
              <a:rPr b="1" i="1" lang="ro-RO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Mă numesc Maxim Andra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Georgiana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m 17 ani,sunt elevă la liceul teoretic “Ion Agârbiceanu” in clasa a X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 D.Îmi place să ascult muzică,să cânt,să dansez şi să o ajut pe mama mea la nevoiele casnice.Eu locuiesc in comuna Surduc din Judeţul Săl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4:34:51Z</dcterms:created>
  <dc:creator> </dc:creator>
  <dc:description/>
  <dc:language>en-US</dc:language>
  <cp:lastModifiedBy> </cp:lastModifiedBy>
  <dcterms:modified xsi:type="dcterms:W3CDTF">2011-10-06T14:27:19Z</dcterms:modified>
  <cp:revision>3</cp:revision>
  <dc:subject/>
  <dc:title>Maxim Andrada – Georgiana</dc:title>
</cp:coreProperties>
</file>